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1C6F2-64FE-4F9B-B32B-C08D36B2F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00C95-6824-47FA-88BE-9D293740D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715AD-6E19-42C6-87CC-075A4AC3E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09950-0485-46FC-B9B3-ED0611E32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9350D-D87A-4C79-830A-9C219CA10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2FD34-D7E5-47BF-ADE5-576AFB9D6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2269F-C71B-4963-8830-B27C25566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F27F6-512A-45BC-B5BD-9C516A1F4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FB7DD-8DAB-4169-B66F-4C83AA557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E4C93-3D5F-4017-B2DF-7E479E241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7753B-27FA-46CB-960D-EA1D75B31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60161-B763-4B9E-AC04-2A821E83D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BD49F-939B-4D70-A6C7-FFA3F413A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A56E1-DA1B-4EAE-9844-FCCE56058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81B41-5F59-4EA7-A977-4DEBAC28F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AC99E-7395-4B55-9A21-86C160AF0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E04E3-94F5-4E2D-82B9-2EB0A0BB1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05CEA-BB6F-4AE9-ADB1-0C06EC3AB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E7B8E-D442-4DC0-88E4-A10D431E4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7FE78-F844-46D7-A386-60E2DE67D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2B6EB-7CC4-43BF-8E8F-33CDEC67B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AF245-7C45-4090-90D6-FB43B9445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6B3B3-6B59-4CEB-B8C5-BE451EA0F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D3B4A-C016-431D-A001-F3255B6C7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EDA40-0F6E-405A-8F02-C28A32355EF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16337-8CBF-4564-9DBF-1892EA6395B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Pearl Harbor Attack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iod 3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ack Murph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Fact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is what brought the U.S. into the w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was known as the day of infam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new that the Japanese were going to attack the U.S. eventually but we thought that the Japanese were going to attack the Philippines fir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Facts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 was and order for a third wave to hit pearl harbor witch would have been much more destructive but the  wave was never sen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the third wave was sent then the U.S. would have taken us the full year to recover that the Japanese predicte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Facts of the U.S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 were 2,403 dead by the end of the attack and 1,282 were wound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cember 7, 1941 at 7:53 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nk four U.S. battle ship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88 aircrafts were destroye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Facts About Japan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Japanese losses were minima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9 air craft’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65 servicemen that were killed or wounde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e of them was capture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ictures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838080" y="1371600"/>
            <a:ext cx="3048120" cy="22240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4114800" y="1066680"/>
            <a:ext cx="3429000" cy="27892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609480" y="3657600"/>
            <a:ext cx="3310200" cy="24447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4"/>
          <a:stretch/>
        </p:blipFill>
        <p:spPr>
          <a:xfrm>
            <a:off x="3962520" y="3962520"/>
            <a:ext cx="3200400" cy="26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Bibliography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"world war battle of the Pacific."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www.nps.gov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 National park service, 7 Dec.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     2009. Web. 14 Dec. 2009. &lt;http://www.nps.gov/valr/index.htm&gt;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4T15:03:05Z</dcterms:created>
  <dc:creator>41333</dc:creator>
  <dc:description/>
  <dc:language>en-US</dc:language>
  <cp:lastModifiedBy>41333</cp:lastModifiedBy>
  <dcterms:modified xsi:type="dcterms:W3CDTF">2009-12-16T19:33:39Z</dcterms:modified>
  <cp:revision>4</cp:revision>
  <dc:subject/>
  <dc:title>Pearl Harbor Attack</dc:title>
</cp:coreProperties>
</file>